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C224-4228-4AC4-AD98-B7335CEDE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C305-43E2-4D1F-9775-7659F3FA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293C-453E-4F4F-A38E-2933309B8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8EAF-121C-4086-B6ED-DCC49BC1F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7327-5E5E-4A45-A614-59D15CC1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C2B3-9C68-41F3-AB80-9DF11B51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EDFD-2D91-4928-9A70-E5D7F51D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1131-77F9-4F09-9B65-03C08010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EED0-E4D7-4B95-A0F6-A8AF97C4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04D2-B3E7-4BBA-B27F-771D445D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D6ED-44F6-4811-A6B1-ACBF02D9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496F-E3B1-4F8F-8951-5A958137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5FE3-57B9-41B7-8C3E-175F1A9D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6EA2-BA15-41E3-BBE6-5A146AB2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FEEB-7323-45D3-ADE8-762D28DA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E76B-D1CB-428C-A363-C6C1B9E76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DB3A-211E-411E-A512-C756D971F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BB5B-BC4E-4EEF-837A-C441DB0E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8763-1ADF-4490-9818-978515F5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25FE-6F28-4562-8356-9D3D4591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09D7-325D-4CF9-BADA-AA50E436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0C26-0402-435A-9BA5-D180E0D3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3D6B-10BE-47F4-BC63-40428487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9C79-CF7A-4435-B916-5A0B86B3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AA2A-C552-4AC4-9E72-AA36F5A3E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07CE-1AF9-4D75-BE03-7386B9AD2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10480" cy="2273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00200" y="487692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Monotype Corsiva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re</a:t>
            </a:r>
            <a:r>
              <a:rPr b="1" lang="en-US" sz="3200" spc="-1" strike="noStrike">
                <a:solidFill>
                  <a:srgbClr val="703dff"/>
                </a:solidFill>
                <a:latin typeface="Monotype Corsiva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gy</a:t>
            </a:r>
            <a:r>
              <a:rPr b="1" lang="en-US" sz="3200" spc="-1" strike="noStrike">
                <a:solidFill>
                  <a:srgbClr val="703dff"/>
                </a:solidFill>
                <a:latin typeface="Monotype Corsiva"/>
              </a:rPr>
              <a:t> Q. E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nci</a:t>
            </a:r>
            <a:r>
              <a:rPr b="1" lang="en-US" sz="3200" spc="-1" strike="noStrike">
                <a:solidFill>
                  <a:srgbClr val="703dff"/>
                </a:solidFill>
                <a:latin typeface="Monotype Corsiva"/>
              </a:rPr>
              <a:t>na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Monotype Corsiva"/>
              </a:rPr>
              <a:t>Gr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ad</a:t>
            </a:r>
            <a:r>
              <a:rPr b="1" lang="en-US" sz="3200" spc="-1" strike="noStrike">
                <a:solidFill>
                  <a:srgbClr val="703dff"/>
                </a:solidFill>
                <a:latin typeface="Monotype Corsiva"/>
              </a:rPr>
              <a:t>e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5</a:t>
            </a:r>
            <a:r>
              <a:rPr b="1" lang="en-US" sz="3200" spc="-1" strike="noStrike">
                <a:solidFill>
                  <a:srgbClr val="703dff"/>
                </a:solidFill>
                <a:latin typeface="Monotype Corsiva"/>
              </a:rPr>
              <a:t>, R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oo</a:t>
            </a:r>
            <a:r>
              <a:rPr b="1" lang="en-US" sz="3200" spc="-1" strike="noStrike">
                <a:solidFill>
                  <a:srgbClr val="703dff"/>
                </a:solidFill>
                <a:latin typeface="Monotype Corsiva"/>
              </a:rPr>
              <a:t>m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Monotype Corsiva"/>
              </a:rPr>
              <a:t>J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un</a:t>
            </a:r>
            <a:r>
              <a:rPr b="1" lang="en-US" sz="3200" spc="-1" strike="noStrike">
                <a:solidFill>
                  <a:srgbClr val="703dff"/>
                </a:solidFill>
                <a:latin typeface="Monotype Corsiva"/>
              </a:rPr>
              <a:t>e 2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01</a:t>
            </a:r>
            <a:r>
              <a:rPr b="1" lang="en-US" sz="3200" spc="-1" strike="noStrike">
                <a:solidFill>
                  <a:srgbClr val="703dff"/>
                </a:solidFill>
                <a:latin typeface="Monotype Corsiva"/>
              </a:rPr>
              <a:t>1 t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o </a:t>
            </a:r>
            <a:r>
              <a:rPr b="1" lang="en-US" sz="3200" spc="-1" strike="noStrike">
                <a:solidFill>
                  <a:srgbClr val="703dff"/>
                </a:solidFill>
                <a:latin typeface="Monotype Corsiva"/>
              </a:rPr>
              <a:t>J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an</a:t>
            </a:r>
            <a:r>
              <a:rPr b="1" lang="en-US" sz="3200" spc="-1" strike="noStrike">
                <a:solidFill>
                  <a:srgbClr val="703dff"/>
                </a:solidFill>
                <a:latin typeface="Monotype Corsiva"/>
              </a:rPr>
              <a:t>ua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ry</a:t>
            </a:r>
            <a:r>
              <a:rPr b="1" lang="en-US" sz="3200" spc="-1" strike="noStrike">
                <a:solidFill>
                  <a:srgbClr val="703dff"/>
                </a:solidFill>
                <a:latin typeface="Monotype Corsiva"/>
              </a:rPr>
              <a:t> 2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0</a:t>
            </a:r>
            <a:r>
              <a:rPr b="1" lang="en-US" sz="3200" spc="-1" strike="noStrike">
                <a:solidFill>
                  <a:srgbClr val="703dff"/>
                </a:solidFill>
                <a:latin typeface="Monotype Corsiv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52280" y="1981080"/>
            <a:ext cx="87631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regory Elementary School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791320" y="0"/>
            <a:ext cx="3352680" cy="26668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75742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09480" y="236232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Book Antiqu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Parts of Speech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Book Antiqu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eech Improv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Book Antiqu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alog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Book Antiqu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ading    Comprehen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Book Antiqu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mposition Wri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3657600" cy="39625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l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4572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Book Antiqu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mprehension of Whole Numbers and Decim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Book Antiqu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a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Book Antiqu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tio and Propor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Book Antiqu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mprehension of Perc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Book Antiqu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obabil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Book Antiqu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teger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Book Antiqu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omet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Book Antiqu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ter Read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3429000" cy="41911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l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09480" y="22096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Book Antiqu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rculatory</a:t>
            </a:r>
            <a:r>
              <a:rPr b="0" lang="en-US" sz="2400" spc="-1" strike="noStrike">
                <a:solidFill>
                  <a:srgbClr val="703d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nd Nervous</a:t>
            </a:r>
            <a:r>
              <a:rPr b="0" lang="en-US" sz="2400" spc="-1" strike="noStrike">
                <a:solidFill>
                  <a:srgbClr val="703dff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Book Antiqu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imals, Plants and the Environ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Book Antiqu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usehold Materi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Book Antiqu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erg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Book Antiqu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r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Book Antiqu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yond the Solar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4191120" cy="4419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l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1752480"/>
            <a:ext cx="7696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Book Antiqua"/>
              </a:rPr>
              <a:t>In Gregory Elementary School, </a:t>
            </a:r>
            <a:br>
              <a:rPr sz="4000"/>
            </a:br>
            <a:r>
              <a:rPr b="0" lang="en-US" sz="4000" spc="-1" strike="noStrike">
                <a:solidFill>
                  <a:srgbClr val="703dff"/>
                </a:solidFill>
                <a:latin typeface="Book Antiqua"/>
              </a:rPr>
              <a:t>your Child will </a:t>
            </a:r>
            <a:br>
              <a:rPr sz="4000"/>
            </a:br>
            <a:r>
              <a:rPr b="0" lang="en-US" sz="4000" spc="-1" strike="noStrike">
                <a:solidFill>
                  <a:srgbClr val="703dff"/>
                </a:solidFill>
                <a:latin typeface="Book Antiqua"/>
              </a:rPr>
              <a:t>have a </a:t>
            </a:r>
            <a:br>
              <a:rPr sz="4000"/>
            </a:br>
            <a:r>
              <a:rPr b="0" lang="en-US" sz="4000" spc="-1" strike="noStrike">
                <a:solidFill>
                  <a:srgbClr val="703dff"/>
                </a:solidFill>
                <a:latin typeface="Book Antiqua"/>
              </a:rPr>
              <a:t>BRIGHTER FUTURE 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l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680"/>
                            </p:stCondLst>
                            <p:childTnLst>
                              <p:par>
                                <p:cTn id="1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75742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2T11:48:44Z</dcterms:created>
  <dc:creator>Basil G. Bacote</dc:creator>
  <dc:description/>
  <dc:language>en-US</dc:language>
  <cp:lastModifiedBy>Basil G. Bacote</cp:lastModifiedBy>
  <dcterms:modified xsi:type="dcterms:W3CDTF">2011-10-02T15:52:15Z</dcterms:modified>
  <cp:revision>41</cp:revision>
  <dc:subject/>
  <dc:title>Gregory  Elementary Scho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